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2B67-DEED-40EA-854D-672C13F5937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BFCA-D34B-44B1-9DFD-826D0D21BEE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ECEO_Pos_MonoTest2"/>
          <p:cNvPicPr/>
          <p:nvPr/>
        </p:nvPicPr>
        <p:blipFill>
          <a:blip r:embed="rId2"/>
          <a:stretch/>
        </p:blipFill>
        <p:spPr>
          <a:xfrm rot="21205200">
            <a:off x="10896120" y="8125920"/>
            <a:ext cx="1397160" cy="1397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4" descr="DETearly368_Sml"/>
          <p:cNvPicPr/>
          <p:nvPr/>
        </p:nvPicPr>
        <p:blipFill>
          <a:blip r:embed="rId2"/>
          <a:stretch/>
        </p:blipFill>
        <p:spPr>
          <a:xfrm>
            <a:off x="92790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5" descr="ECEO_Pos_MonoTest2"/>
          <p:cNvPicPr/>
          <p:nvPr/>
        </p:nvPicPr>
        <p:blipFill>
          <a:blip r:embed="rId3"/>
          <a:stretch/>
        </p:blipFill>
        <p:spPr>
          <a:xfrm rot="21180600">
            <a:off x="10896120" y="762012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"/>
          <p:cNvPicPr/>
          <p:nvPr/>
        </p:nvPicPr>
        <p:blipFill>
          <a:blip r:embed="rId4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9" descr="DETearly722_Sml"/>
          <p:cNvPicPr/>
          <p:nvPr/>
        </p:nvPicPr>
        <p:blipFill>
          <a:blip r:embed="rId5"/>
          <a:stretch/>
        </p:blipFill>
        <p:spPr>
          <a:xfrm>
            <a:off x="44784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0" descr="DETearly805_Sml"/>
          <p:cNvPicPr/>
          <p:nvPr/>
        </p:nvPicPr>
        <p:blipFill>
          <a:blip r:embed="rId6"/>
          <a:stretch/>
        </p:blipFill>
        <p:spPr>
          <a:xfrm>
            <a:off x="6078600" y="7910640"/>
            <a:ext cx="1466640" cy="14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8" descr="DETearly281_Sml"/>
          <p:cNvPicPr/>
          <p:nvPr/>
        </p:nvPicPr>
        <p:blipFill>
          <a:blip r:embed="rId7"/>
          <a:stretch/>
        </p:blipFill>
        <p:spPr>
          <a:xfrm>
            <a:off x="7678800" y="7910640"/>
            <a:ext cx="1465200" cy="146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166760" y="915840"/>
            <a:ext cx="10667880" cy="2971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HARED REA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-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1014480" y="380880"/>
            <a:ext cx="11177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SHARED READING </a:t>
            </a:r>
            <a:br>
              <a:rPr sz="43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room Indicators-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861840" y="1830240"/>
            <a:ext cx="1105380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Clear instructional focus e.g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325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- Text features and structures           - Problem-solving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3254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- Re-reading and self monitoring       - Finding eviden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Demonstration of how the reading process work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Teaching for effective use of reading strateg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High level questioning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Where appropriate, teachers schedule opportunities to promote familiarity and memorisation through repeated reading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100" spc="-1" strike="noStrike">
                <a:solidFill>
                  <a:srgbClr val="4b4b4b"/>
                </a:solidFill>
                <a:latin typeface="Arial"/>
              </a:rPr>
              <a:t>Daily instruction : 15- 2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7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014480" y="380880"/>
            <a:ext cx="111776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SHARED READING </a:t>
            </a:r>
            <a:br>
              <a:rPr sz="43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room Indicators- Instruction (Continu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101448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Using enlarged text </a:t>
            </a: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students discover what is relevant to becoming a reader – challenging and deepening thinking, questioning, self monitoring, self correcting, sampling, confirm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Using enlarged text to enrich literacy experiences e.g. varying the way texts are presented to clearly emphasise enjoy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Using enlarged text to analyse different text types and styl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25" name="Right Arrow 2"/>
          <p:cNvSpPr/>
          <p:nvPr/>
        </p:nvSpPr>
        <p:spPr>
          <a:xfrm>
            <a:off x="1547640" y="3811680"/>
            <a:ext cx="2667240" cy="99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eft Arrow 3"/>
          <p:cNvSpPr/>
          <p:nvPr/>
        </p:nvSpPr>
        <p:spPr>
          <a:xfrm>
            <a:off x="8710560" y="3887640"/>
            <a:ext cx="289548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100" spc="-1" strike="noStrike">
                <a:solidFill>
                  <a:srgbClr val="008000"/>
                </a:solidFill>
                <a:latin typeface="Arial"/>
              </a:rPr>
              <a:t>How do we identify an instructional focus?</a:t>
            </a:r>
            <a:endParaRPr b="1" lang="en-US" sz="41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Prior observation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Assessment Task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NAPLAN Data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VEL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eaching for Reading Strategie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2"/>
          <p:cNvSpPr/>
          <p:nvPr/>
        </p:nvSpPr>
        <p:spPr>
          <a:xfrm>
            <a:off x="785880" y="2516040"/>
            <a:ext cx="1128060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t Level 4, students read,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interpre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respon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o a wide range of literary, everyday and media texts in print and in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multimod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formats. They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analys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hese texts and support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interpretation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evidenc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drawn from the text. They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describ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how texts are constructed for particular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purposes and audience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and identify how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sociocultural values, attitudes and belief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 presented in texts.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They analyse information, imagery, characterisation, dialogue, point of view, plot and setting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They use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strategies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uch as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reading on, using contextual cues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rawing on knowledge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text organisation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en interpreting texts containing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b7826"/>
                </a:solidFill>
                <a:latin typeface="Arial"/>
              </a:rPr>
              <a:t>unfamiliar ideas and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1830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VELS LEVEL 4 </a:t>
            </a:r>
            <a:br>
              <a:rPr sz="4300"/>
            </a:b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ading Statement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HARED READING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Arial"/>
              </a:rPr>
              <a:t>Modelled Session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Observation 1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57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nstructional focus?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601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 classroom indicators evident?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601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g Shared Reading Sec. Art.mov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825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825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57200" indent="-228600">
              <a:spcBef>
                <a:spcPts val="825"/>
              </a:spcBef>
              <a:tabLst>
                <a:tab algn="l" pos="0"/>
                <a:tab algn="l" pos="45720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Observation 2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instructional focus?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 classroom indicators evident?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 1 2 Shared Reading.wmv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4"/>
          <p:cNvSpPr/>
          <p:nvPr/>
        </p:nvSpPr>
        <p:spPr>
          <a:xfrm>
            <a:off x="2538360" y="3201840"/>
            <a:ext cx="8381880" cy="2517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How does it look different across year levels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le 1"/>
          <p:cNvSpPr/>
          <p:nvPr/>
        </p:nvSpPr>
        <p:spPr>
          <a:xfrm>
            <a:off x="1138320" y="380880"/>
            <a:ext cx="11053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SHARED READING </a:t>
            </a:r>
            <a:br>
              <a:rPr sz="4300"/>
            </a:b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assroom Indicators-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1090440" y="167796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Many short, enlarged print text selection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charts – short factual and narrative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text selections e g. science experiment, newspaper reports, magazines and current affairs websi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songs, chants, poems and rhym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825"/>
              </a:spcBef>
              <a:buClr>
                <a:srgbClr val="4b4b4b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  <a:ea typeface="ＭＳ Ｐゴシック"/>
              </a:rPr>
              <a:t>big books – all text typ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Enlarged texts and charts well displayed in easily accessible stora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Interactive whiteboard, data projector &amp; overhead project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Effective Reading Instruction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Teachers must have: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Knowledge of reading curriculum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Knowledge about learners- What do they do and what do they know, at home and school?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Knowledge of instructional element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High expectations of all students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0">
              <a:spcBef>
                <a:spcPts val="90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41" name="Right Arrow 2"/>
          <p:cNvSpPr/>
          <p:nvPr/>
        </p:nvSpPr>
        <p:spPr>
          <a:xfrm>
            <a:off x="2157480" y="5487840"/>
            <a:ext cx="2666880" cy="990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990720" y="2209680"/>
            <a:ext cx="1104876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Breakthrough    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Fullan Hill and Crevola</a:t>
            </a:r>
            <a:r>
              <a:rPr b="0" lang="en-AU" sz="1500" spc="-1" strike="noStrike">
                <a:solidFill>
                  <a:srgbClr val="44422c"/>
                </a:solidFill>
                <a:latin typeface="Arial"/>
              </a:rPr>
              <a:t>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Teaching for Comprehending  and Fluency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Fountas and Pinn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Western Australia First Steps Second E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Effective Literacy Practice 1-4 and 5-8  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NZ Ministry of Edu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Victorian Essential Learning Standards      </a:t>
            </a:r>
            <a:r>
              <a:rPr b="0" lang="en-AU" sz="1700" spc="-1" strike="noStrike">
                <a:solidFill>
                  <a:srgbClr val="44422c"/>
                </a:solidFill>
                <a:latin typeface="Arial"/>
              </a:rPr>
              <a:t>DEEC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Becoming Literate   CL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3 level Gu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4422c"/>
                </a:solidFill>
                <a:latin typeface="Arial"/>
              </a:rPr>
              <a:t>Pea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2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44422c"/>
                </a:solidFill>
                <a:latin typeface="Arial"/>
              </a:rPr>
              <a:t>www.education.vic.gov.au/studentlearning</a:t>
            </a:r>
            <a:r>
              <a:rPr b="0" lang="en-AU" sz="1600" spc="-1" strike="noStrike" u="sng">
                <a:solidFill>
                  <a:srgbClr val="44422c"/>
                </a:solidFill>
                <a:uFillTx/>
                <a:latin typeface="Arial"/>
              </a:rPr>
              <a:t>/</a:t>
            </a:r>
            <a:r>
              <a:rPr b="0" lang="en-AU" sz="1600" spc="-1" strike="noStrike" u="sng">
                <a:solidFill>
                  <a:srgbClr val="009999"/>
                </a:solidFill>
                <a:uFillTx/>
                <a:latin typeface="Arial"/>
              </a:rPr>
              <a:t>teachingresources/english/literacy/default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ference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14480" y="1754280"/>
            <a:ext cx="110487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Catching onto Comprehension- Pea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NAPLAN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AIM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PROBE tex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Skyrider Shared Reading 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Pea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38360" indent="-446400">
              <a:lnSpc>
                <a:spcPct val="90000"/>
              </a:lnSpc>
              <a:spcBef>
                <a:spcPts val="4000"/>
              </a:spcBef>
              <a:buClr>
                <a:srgbClr val="44422c"/>
              </a:buClr>
              <a:buSzPct val="125000"/>
              <a:buFont typeface="Opt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422c"/>
                </a:solidFill>
                <a:latin typeface="Arial"/>
              </a:rPr>
              <a:t>Time for Kids website- http://www.timeforkids.com/TFK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Reading Curriculum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7000"/>
          </a:bodyPr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e reading proces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omprehension strategie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Vocabulary: affected by world knowledge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luency: expression, phrasing, rate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Deco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Response to rea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ext selection: just right texts for Independent Reading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72680" indent="-47268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le 1"/>
          <p:cNvSpPr/>
          <p:nvPr/>
        </p:nvSpPr>
        <p:spPr>
          <a:xfrm>
            <a:off x="1138320" y="380880"/>
            <a:ext cx="110538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LITERACY EL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100080" y="1677960"/>
            <a:ext cx="54496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Read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Up-Down Arrow 4"/>
          <p:cNvSpPr/>
          <p:nvPr/>
        </p:nvSpPr>
        <p:spPr>
          <a:xfrm>
            <a:off x="5281560" y="1373040"/>
            <a:ext cx="2743200" cy="594360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008000">
              <a:alpha val="8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AKING &amp;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ontent Placeholder 3"/>
          <p:cNvSpPr/>
          <p:nvPr/>
        </p:nvSpPr>
        <p:spPr>
          <a:xfrm>
            <a:off x="7907400" y="1677960"/>
            <a:ext cx="5095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Write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10466280" y="6097680"/>
            <a:ext cx="574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29F0-B2DC-4015-9B47-A72904D744DA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861840" y="382680"/>
            <a:ext cx="1127772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RADUAL RELEASE OF RESPONSIBILIT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2766960" y="2957400"/>
            <a:ext cx="1676520" cy="2362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demonstrates and explains the literacy focus being taught. This is achieved by thinking aloud the mental processes and modelling the reading, writing, speaking and list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2766960" y="5624640"/>
            <a:ext cx="1676520" cy="10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participates by actively attending to the demonstr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4976640" y="2957400"/>
            <a:ext cx="1676520" cy="1800360"/>
          </a:xfrm>
          <a:prstGeom prst="rect">
            <a:avLst/>
          </a:prstGeom>
          <a:solidFill>
            <a:srgbClr val="008000">
              <a:alpha val="8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teacher continues to demonstrate the literacy focus, encouraging students to contribute ideas and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5"/>
          <p:cNvSpPr/>
          <p:nvPr/>
        </p:nvSpPr>
        <p:spPr>
          <a:xfrm>
            <a:off x="4976640" y="5243400"/>
            <a:ext cx="1676520" cy="1440000"/>
          </a:xfrm>
          <a:prstGeom prst="rect">
            <a:avLst/>
          </a:prstGeom>
          <a:solidFill>
            <a:srgbClr val="008000">
              <a:alpha val="8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udents contribute ideas and begin to practise the use of the literacy focus in whole class situ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6"/>
          <p:cNvSpPr/>
          <p:nvPr/>
        </p:nvSpPr>
        <p:spPr>
          <a:xfrm>
            <a:off x="7262640" y="2957400"/>
            <a:ext cx="1676520" cy="144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UID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provides scaffolds for students to use the literacy focus. Teacher provides feedba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7"/>
          <p:cNvSpPr/>
          <p:nvPr/>
        </p:nvSpPr>
        <p:spPr>
          <a:xfrm>
            <a:off x="7262640" y="4938840"/>
            <a:ext cx="1676520" cy="180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s work with help from the teacher and peers to practise the use of the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9"/>
          <p:cNvSpPr/>
          <p:nvPr/>
        </p:nvSpPr>
        <p:spPr>
          <a:xfrm>
            <a:off x="9548640" y="2957400"/>
            <a:ext cx="1676520" cy="107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LY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offers support and encouragement when 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0"/>
          <p:cNvSpPr/>
          <p:nvPr/>
        </p:nvSpPr>
        <p:spPr>
          <a:xfrm>
            <a:off x="9548640" y="4557600"/>
            <a:ext cx="1676520" cy="215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works independently to apply the use of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1700280" y="2424240"/>
            <a:ext cx="8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3147840" y="6843600"/>
            <a:ext cx="88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stu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9"/>
          <p:cNvSpPr/>
          <p:nvPr/>
        </p:nvSpPr>
        <p:spPr>
          <a:xfrm>
            <a:off x="8151840" y="6824520"/>
            <a:ext cx="34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Pearson &amp; Gallag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3"/>
          <p:cNvSpPr/>
          <p:nvPr/>
        </p:nvSpPr>
        <p:spPr>
          <a:xfrm rot="16200000">
            <a:off x="267120" y="4698720"/>
            <a:ext cx="37450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DEGREE OF 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008000"/>
                </a:solidFill>
                <a:latin typeface="Arial"/>
              </a:rPr>
              <a:t>PAIRED VERBAL FLUENCY</a:t>
            </a:r>
            <a:endParaRPr b="1" lang="en-US" sz="4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pairs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 A  tells Person B everything s/he knows about the topic for about a minute, while number two listens carefully.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minute is up, Person B tells Person A everything s/he knows about the topic without repeating any ideas for 45 seconds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repeated for another two rounds, with a shorter amount of time allocated to each round(30 seconds and 15 seconds) 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Person B will briefly paraphrase the conversation with the rest of the group.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  <a:p>
            <a:pPr marL="723240" indent="-477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2538360" y="3201840"/>
            <a:ext cx="8381880" cy="1709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What is Shared Reading?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Arial"/>
              </a:rPr>
              <a:t>What is its purpose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4"/>
          <p:cNvSpPr/>
          <p:nvPr/>
        </p:nvSpPr>
        <p:spPr>
          <a:xfrm>
            <a:off x="1166760" y="458640"/>
            <a:ext cx="11053800" cy="83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SHARED READING                  </a:t>
            </a:r>
            <a:r>
              <a:rPr b="1" lang="en-US" sz="4300" spc="-1" strike="noStrike">
                <a:solidFill>
                  <a:srgbClr val="a6a6a6"/>
                </a:solidFill>
                <a:latin typeface="Arial"/>
              </a:rPr>
              <a:t>Description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5"/>
          <p:cNvSpPr/>
          <p:nvPr/>
        </p:nvSpPr>
        <p:spPr>
          <a:xfrm>
            <a:off x="109044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Shared Reading is whole class teaching i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supportive environment, using enlarged prin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high quality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Teachers select text well suited to strateg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instru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Students and teachers share the task of reading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600" spc="-1" strike="noStrike">
                <a:solidFill>
                  <a:srgbClr val="4b4b4b"/>
                </a:solidFill>
                <a:latin typeface="Arial"/>
              </a:rPr>
              <a:t>text which might otherwise prove too challeng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01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0:12:23Z</dcterms:created>
  <dc:creator>Cato Purnell</dc:creator>
  <dc:description/>
  <dc:language>en-US</dc:language>
  <cp:lastModifiedBy>Kylie Lipscombe</cp:lastModifiedBy>
  <dcterms:modified xsi:type="dcterms:W3CDTF">2009-08-05T11:04:34Z</dcterms:modified>
  <cp:revision>31</cp:revision>
  <dc:subject/>
  <dc:title>PowerPoint Presentation</dc:title>
</cp:coreProperties>
</file>